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2CA-060D-48A9-9E7E-5E56F47D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CC3-BE14-46AA-8E69-3F610F2A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CAC-BCE8-4D2C-B8D3-80DEF671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19E-BD95-4942-896D-3FF4DC0F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75D-1E8B-4397-A95A-FE78A53D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E38-7D7A-4504-8524-60BEED9E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543-FE3E-4467-AA97-C41B668C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203-6F9C-4A8F-BAD0-90593B64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52C-16A1-4026-950E-70874AB1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272-A0C8-491A-9B75-0688C246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D3C-332F-478A-9AA6-54FE146E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0F2-2BC5-4719-AFFB-2B1D6257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5F92-E702-470B-A7CB-54FBB6375CEB}" type="slidenum">
              <a:rPr b="0" lang="en-US" sz="1400" spc="-1" strike="noStrike">
                <a:solidFill>
                  <a:srgbClr val="333333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Chapter 1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 Unicode MS"/>
              </a:rPr>
              <a:t>Measurements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Significant Figures in Calculations</a:t>
            </a:r>
            <a:endParaRPr b="0" lang="en-US" sz="4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1066680"/>
            <a:ext cx="419112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2E1-7D6B-430A-B926-A177E5145E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In which set(s) do both numbers contain the </a:t>
            </a:r>
            <a:r>
              <a:rPr b="1" i="1" lang="en-US" sz="3000" spc="-1" strike="noStrike">
                <a:solidFill>
                  <a:srgbClr val="ff0000"/>
                </a:solidFill>
                <a:latin typeface="Arial Unicode MS"/>
              </a:rPr>
              <a:t>same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number of significant figures?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743040" indent="0">
              <a:lnSpc>
                <a:spcPct val="12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0.000015 and 150,000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4" marL="2057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C60-E247-4D06-9003-EAA6ABDA10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State the number of significant figures in each of the following: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A.   0.030 m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1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2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B.  4.050 L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2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3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4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C.  0.0008 g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1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2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4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D.  3.00 m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1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2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E.  2,080,000 bees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3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5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7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Learning Check SF3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D8B-0F57-4188-8E34-361BC27D53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4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A.   0.030 m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B.  4.050 L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C.  0.00008 g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1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D.  3.00 m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34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E.  2,080,000 bees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3 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	</a:t>
            </a:r>
            <a:endParaRPr b="0" lang="en-US" sz="34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0A0-AA45-4F00-89E9-9958502F1A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29528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Significant Numbers in Calculations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 calculated answer cannot be more precise than the measuring tool.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 calculated answer must match the least precise measurement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Significant figures are needed for final answers from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1)  adding or subtracting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)  multiplying or dividing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B54-8DED-4D45-BBE8-93C189F284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Adding and Subtracting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Arial Unicode MS"/>
              </a:rPr>
              <a:t>The answer has the same number of decimal places as the measurement with the fewest decimal places.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Unicode MS"/>
              </a:rPr>
              <a:t>     </a:t>
            </a: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5.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    </a:t>
            </a:r>
            <a:r>
              <a:rPr b="1" i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 Unicode MS"/>
              </a:rPr>
              <a:t>one decimal place</a:t>
            </a: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33333"/>
                </a:solidFill>
                <a:uFillTx/>
                <a:latin typeface="Arial Unicode MS"/>
              </a:rPr>
              <a:t>+   1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 Unicode MS"/>
              </a:rPr>
              <a:t>.34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i="1" lang="en-US" sz="2800" spc="-1" strike="noStrike">
                <a:solidFill>
                  <a:srgbClr val="ff0000"/>
                </a:solidFill>
                <a:latin typeface="Arial Unicode MS"/>
              </a:rPr>
              <a:t>two decimal places</a:t>
            </a: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6.54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nswer 26.5  </a:t>
            </a:r>
            <a:r>
              <a:rPr b="1" i="1" lang="en-US" sz="2800" spc="-1" strike="noStrike">
                <a:solidFill>
                  <a:srgbClr val="ff0000"/>
                </a:solidFill>
                <a:latin typeface="Arial Unicode MS"/>
              </a:rPr>
              <a:t>one decimal place</a:t>
            </a: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8D3-10B6-4454-A64E-1DD2ADBB40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In each calculation, round the answer to the correct number of significant figures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.  235.05   +   19.6  + 2.1 =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256.75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2) 256.8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257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B.    58.925   -  18.2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=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40.725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2) 40.73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40.7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29D-5BCB-41A3-978E-3FAB487C05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.  235.05   +   19.6  + 2.1 =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256.8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B.    58.925   -  18.2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=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40.7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B96-04AC-4937-B6D7-8E8379E5A5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Multiplying and Dividing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Round (or add zeros) to the calculated answer until you have the same number of significant figures as the measurement with the fewest significant figures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641-A8DE-49A6-BE03-7CA2DBD726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.   2.19  X  4.2 =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 9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9.2 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 9.198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B</a:t>
            </a:r>
            <a:r>
              <a:rPr b="1" lang="en-US" sz="2800" spc="-1" strike="noStrike">
                <a:solidFill>
                  <a:srgbClr val="333333"/>
                </a:solidFill>
                <a:latin typeface="Arial Unicode MS"/>
              </a:rPr>
              <a:t>. 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4.311  ÷  0.07   =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61.58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62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 60</a:t>
            </a: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Arial Unicode MS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. 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 u="sng">
                <a:solidFill>
                  <a:srgbClr val="333333"/>
                </a:solidFill>
                <a:uFillTx/>
                <a:latin typeface="Arial Unicode MS"/>
              </a:rPr>
              <a:t>2.54  X  0.0028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= 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105 X 0.060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 11.3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11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3)  0.041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268-BE33-4308-BDE5-63D29C6D9D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.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.19  X  4.2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=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9.2 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B. 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4.311  </a:t>
            </a:r>
            <a:r>
              <a:rPr b="1" lang="en-US" sz="3400" spc="-1" strike="noStrike">
                <a:solidFill>
                  <a:srgbClr val="333333"/>
                </a:solidFill>
                <a:latin typeface="Arial Unicode MS"/>
              </a:rPr>
              <a:t>÷  0.07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= </a:t>
            </a: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 60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.</a:t>
            </a:r>
            <a:r>
              <a:rPr b="1" lang="en-US" sz="3000" spc="-1" strike="noStrike" u="sng">
                <a:solidFill>
                  <a:srgbClr val="333333"/>
                </a:solidFill>
                <a:uFillTx/>
                <a:latin typeface="Arial Unicode MS"/>
              </a:rPr>
              <a:t>	</a:t>
            </a:r>
            <a:r>
              <a:rPr b="1" lang="en-US" sz="3000" spc="-1" strike="noStrike" u="sng">
                <a:solidFill>
                  <a:srgbClr val="333333"/>
                </a:solidFill>
                <a:uFillTx/>
                <a:latin typeface="Arial Unicode MS"/>
              </a:rPr>
              <a:t>2.54  X  0.0028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=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11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105 X 0.060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Continuous calculator operation =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.54   x  0.0028   </a:t>
            </a:r>
            <a:r>
              <a:rPr b="1" lang="en-US" sz="36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0.0105  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ff0000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0.060</a:t>
            </a:r>
            <a:r>
              <a:rPr b="1" lang="en-US" sz="2800" spc="-1" strike="noStrike">
                <a:solidFill>
                  <a:srgbClr val="ff9933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Arial Unicode MS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48E-103C-449C-96AF-B971DCA815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Significant Figures in Measurement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399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The numbers reported in a measurement are limited by the measuring tool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3399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Significant figures in a measurement include the known digits plus one estimated digit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99A-B513-4C6D-8DC8-C3CCD67126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Counting Significant Figures</a:t>
            </a:r>
            <a:br>
              <a:rPr sz="3600"/>
            </a:b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Number of Significant Figures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4" marL="1892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38.15 cm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4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5.6 ft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65.6 lb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122.55 m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omplete: All non-zero digits in a measured number are (significant or not significant)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EE0-B09B-4948-B997-39A07393C7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Leading Zeros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Number of Significant Figures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08 mm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156 oz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042 lb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_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00262 mL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_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omplete: Leading zeros in decimal numbers are (significant or not significant)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4C7-7FE0-4444-BADA-F2E58E53C6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Sandwiched Zeros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Number of Significant Figures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50.8 mm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001 min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702 lb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_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0.00405 m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_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omplete: Zeros between nonzero numbers are (significant or not significant)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58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FC1-F8F8-4DAC-BB32-457A00A38D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Trailing Zeros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0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Number of Significant Figures</a:t>
            </a:r>
            <a:r>
              <a:rPr b="1" lang="en-US" sz="3000" spc="-1" strike="noStrike">
                <a:solidFill>
                  <a:srgbClr val="0033cc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5,000 in.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00 yr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48,600 gal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25,005,000 g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____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omplete: Trailing zeros in numbers without decimals are (significant or not significant)  if they are serving as place holders.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2AB-B62B-4CB2-B0D3-09EAEAEBF5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. Which answers contain 3 significant  figures?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65376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  0.4760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2)  0.00476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3)  4760</a:t>
            </a: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     </a:t>
            </a: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B. All the zeros are significant in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  0.00307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 2)  25.300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3)  2.050 x 10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016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. 534,675 rounded to 3 significant  figures is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653760" indent="0">
              <a:lnSpc>
                <a:spcPct val="12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 535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 2)  535,000 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3) 5.35 x 10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86D-E858-47FC-96FF-30BC4CCFB9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A. Which answers contain 3 significant  figures?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72072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0.00476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4760  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B. All the zeros are significant in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25.300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2.050 x 10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C. 534,675 rounded to 3 significant  figures is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720720" indent="0">
              <a:lnSpc>
                <a:spcPct val="12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535,000 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5.35 x 10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 Unicode MS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94C-5128-4D08-93BE-D5290E08A7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Unicode MS"/>
              </a:rPr>
              <a:t>Learning Check</a:t>
            </a:r>
            <a:endParaRPr b="0" lang="en-US" sz="40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In which set(s) do both numbers contain the </a:t>
            </a:r>
            <a:r>
              <a:rPr b="1" i="1" lang="en-US" sz="3000" spc="-1" strike="noStrike">
                <a:solidFill>
                  <a:srgbClr val="ff0000"/>
                </a:solidFill>
                <a:latin typeface="Arial Unicode MS"/>
              </a:rPr>
              <a:t>same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number of significant figures?  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Arial Unicode MS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1)  22.0  and 22.00   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743040" indent="0">
              <a:lnSpc>
                <a:spcPct val="12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2)  400.0 and 40    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1" marL="743040" indent="0">
              <a:lnSpc>
                <a:spcPct val="12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 Unicode MS"/>
              </a:rPr>
              <a:t>3)  0.000015 and 150,000</a:t>
            </a:r>
            <a:endParaRPr b="0" lang="en-US" sz="3000" spc="-1" strike="noStrike">
              <a:solidFill>
                <a:srgbClr val="333333"/>
              </a:solidFill>
              <a:latin typeface="Arial Unicode MS"/>
            </a:endParaRPr>
          </a:p>
          <a:p>
            <a:pPr lvl="4" marL="2057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berlake lecture pl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469-276C-46B6-BE17-C2BACD8278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6T17:31:22Z</dcterms:created>
  <dc:creator>Karen Timberlake</dc:creator>
  <dc:description/>
  <dc:language>en-US</dc:language>
  <cp:lastModifiedBy>Timberlake</cp:lastModifiedBy>
  <cp:lastPrinted>1999-05-16T18:06:19Z</cp:lastPrinted>
  <dcterms:modified xsi:type="dcterms:W3CDTF">2002-10-03T14:08:22Z</dcterms:modified>
  <cp:revision>9</cp:revision>
  <dc:subject/>
  <dc:title>Chapter 1 Measur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